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619-6EBD-49E2-A849-2E7B711F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A6D-271B-495F-A676-EABB939C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EBF-68D9-478E-A869-3B0B10AA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0C2-4B08-419F-BD9B-F52B7D76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DFA7-D0E3-440E-8A70-DD609F98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67D0-13D6-4A74-8A19-D575B00B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F0AC-C078-4DB9-9E6C-2B17D025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CA60-20F7-4418-A7A8-45851776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12C4-5194-4A5A-ADFC-0B180A74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2E48-B314-4901-A76D-B8191EDF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C839-B84B-4886-82AF-92423E57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0E0F-1832-4773-A240-904A35E4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AFD1-F631-4CC8-A9EA-A411C9C6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DCA6-FACD-4D69-8048-1A5722AC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A5E8-165F-4D4E-9314-C8613C0C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3B06-7C76-4B8B-88FA-F8652EED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4277-B8E6-4801-9904-A5890496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CE9A-B1CC-40ED-B4FD-CC79EE0B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54699-362E-4ACD-BB15-EC23C21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5CC8-58C7-43E9-B278-A558CDE5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A9D25-C413-4E71-A1F9-0F770F49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7C84-54B4-4994-AC32-1C5C1F83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ABF-0F85-4E0C-B8B4-B75C84CB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6585-94F1-4887-8953-C21BFB35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8233-7315-4D3B-AE2A-1999475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EBE4-2DD6-4EEC-A0E9-EEAAFDD9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218DD-846B-441D-9FE0-713018EF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2FDFD-45A2-4BAE-BF0F-A99F9B74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37179-AE30-4A96-8A83-D9EC8C078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88C4-ECA0-4772-864B-52E45D6E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5994-0B28-4410-9A43-2F531CAE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95D5-D625-43D8-A347-F4E39DDB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CF19-EF1F-4EB9-9E49-B8AEB4EB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A95-C32F-4BBC-BD47-F0CB4187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88C-1FF5-4DE7-8D52-7DDB9E6D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92A2-9B7E-47A5-A5EB-A24C17A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F09D-CE09-4165-8B9B-584C94F166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227480" cy="11430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50920" y="5305320"/>
            <a:ext cx="5391000" cy="15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433C-6EB6-46B8-BAC1-35E6076D3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11280" y="0"/>
            <a:ext cx="422748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5305320"/>
            <a:ext cx="5391000" cy="155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62D4-6D15-467A-9179-AB3A7FC5DA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usiness Classes &amp; 1-2-1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oup the ideas into advantages &amp; disadvantages for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teacher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and disc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 – 10 tips to minimise the 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ad card and discuss: Agree? Why? Do you do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 – 10 activ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ad -&gt; 30s to explain to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me homework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ticle on 1-to-1s taken from “English Teaching Professional” Issue 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Which teaching context below do you prefer and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eneral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usiness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1-2-1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day’s s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 1 (Business English cla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ferences between BE and 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aracteristics of BE lear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lications for approach &amp;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t 2 (One to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vantages &amp; disadvantages for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dvantages &amp; disadvantages for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 tips to minimise dis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0 one-to-on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 1 (Business English cl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fferences between BE and 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haracteristics of BE lea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lications for approach &amp;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A) Things to think about in business clas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t clear objectives and feedback on prog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requent short-term goals &amp; end-of-the-cou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ive specific feedback after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What will learning X enable the student to d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ts of communicative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B) Things to think about in business clas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onsor’s v Learners’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corporate some of the sponsor’s needs into the syllabus – Highlight to DoS if problem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gular feedback on progress (esp. At higher leve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volve ALL the 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mite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ive achievable HW – short but of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f they really can’t – plan HW into the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13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(C) Things to think about in business clas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exical chunks – collocations, phrases, fixed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ighlight then practise, practise, practis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ear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BLs particularly suit business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eful! Ss may not accept the “TEFL-y” way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n-native 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st Ss will speak to non-natives – maybe ditch some phrasal verbs &amp; idi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 2 (One-to-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cuss the advantages &amp; disadvantages of 1-2-1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ne-to-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roup the ideas into advantages &amp; disadvantages for 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students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and discu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6:48:39Z</dcterms:created>
  <dc:creator>Fiona</dc:creator>
  <dc:description/>
  <dc:language>en-US</dc:language>
  <cp:lastModifiedBy>BRoberts</cp:lastModifiedBy>
  <dcterms:modified xsi:type="dcterms:W3CDTF">2011-11-04T10:47:51Z</dcterms:modified>
  <cp:revision>37</cp:revision>
  <dc:subject/>
  <dc:title>2008-9</dc:title>
</cp:coreProperties>
</file>